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9.wmf" ContentType="image/x-wmf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6560" y="1906200"/>
            <a:ext cx="820584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60" y="4013280"/>
            <a:ext cx="820584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6560" y="1906200"/>
            <a:ext cx="400428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360" y="1906200"/>
            <a:ext cx="400428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560" y="4013280"/>
            <a:ext cx="400428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360" y="4013280"/>
            <a:ext cx="400428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6560" y="1906200"/>
            <a:ext cx="264204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1080" y="1906200"/>
            <a:ext cx="264204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600" y="1906200"/>
            <a:ext cx="264204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560" y="4013280"/>
            <a:ext cx="264204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1080" y="4013280"/>
            <a:ext cx="264204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600" y="4013280"/>
            <a:ext cx="264204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6560" y="1906200"/>
            <a:ext cx="82058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6560" y="1906200"/>
            <a:ext cx="820584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6560" y="1906200"/>
            <a:ext cx="400428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1360" y="1906200"/>
            <a:ext cx="400428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6560" y="115920"/>
            <a:ext cx="820584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6560" y="1906200"/>
            <a:ext cx="400428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360" y="1906200"/>
            <a:ext cx="400428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560" y="4013280"/>
            <a:ext cx="400428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6560" y="1906200"/>
            <a:ext cx="82058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6560" y="1906200"/>
            <a:ext cx="400428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360" y="1906200"/>
            <a:ext cx="400428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1360" y="4013280"/>
            <a:ext cx="400428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6560" y="1906200"/>
            <a:ext cx="400428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360" y="1906200"/>
            <a:ext cx="400428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60" y="4013280"/>
            <a:ext cx="820584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6560" y="1906200"/>
            <a:ext cx="820584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60" y="4013280"/>
            <a:ext cx="820584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6560" y="1906200"/>
            <a:ext cx="400428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360" y="1906200"/>
            <a:ext cx="400428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560" y="4013280"/>
            <a:ext cx="400428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1360" y="4013280"/>
            <a:ext cx="400428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6560" y="1906200"/>
            <a:ext cx="264204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1080" y="1906200"/>
            <a:ext cx="264204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5600" y="1906200"/>
            <a:ext cx="264204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60" y="4013280"/>
            <a:ext cx="264204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1080" y="4013280"/>
            <a:ext cx="264204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5600" y="4013280"/>
            <a:ext cx="264204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906200"/>
            <a:ext cx="820584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6560" y="1906200"/>
            <a:ext cx="400428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360" y="1906200"/>
            <a:ext cx="400428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6560" y="115920"/>
            <a:ext cx="820584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6560" y="1906200"/>
            <a:ext cx="400428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360" y="1906200"/>
            <a:ext cx="400428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6560" y="4013280"/>
            <a:ext cx="400428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6560" y="1906200"/>
            <a:ext cx="400428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360" y="1906200"/>
            <a:ext cx="400428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360" y="4013280"/>
            <a:ext cx="400428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6560" y="1906200"/>
            <a:ext cx="400428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360" y="1906200"/>
            <a:ext cx="400428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60" y="4013280"/>
            <a:ext cx="8205840" cy="19238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31080"/>
            <a:ext cx="9140760" cy="82692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6560" y="1906200"/>
            <a:ext cx="820584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92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44600" indent="-2728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95320" indent="-27144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36680" indent="-26172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36680" indent="-26172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36680" indent="-26172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74560" y="1222200"/>
            <a:ext cx="7989840" cy="0"/>
          </a:xfrm>
          <a:prstGeom prst="line">
            <a:avLst/>
          </a:prstGeom>
          <a:ln w="50760">
            <a:solidFill>
              <a:srgbClr val="0836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812000" y="6278400"/>
            <a:ext cx="1008000" cy="39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948360" y="5805360"/>
            <a:ext cx="1787760" cy="76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7986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7986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5732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798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15228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7986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4616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7986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46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46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aleksandar.savic@erstebank.rs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 Black"/>
              </a:rPr>
              <a:t>Erste Bank a.d Novi Sad 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ektor poslova sa pravnim licim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68000" y="4723920"/>
            <a:ext cx="8280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5373720"/>
            <a:ext cx="3889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Novi Sad, 05.05.201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Beograd, 06.05.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672760" cy="836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Erste</a:t>
            </a:r>
            <a:r>
              <a:rPr b="1" lang="sr-Latn-C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Grup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53440" cy="4527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363600" indent="-363600" algn="just">
              <a:buClr>
                <a:srgbClr val="000000"/>
              </a:buClr>
              <a:buFont typeface="Wingdings" charset="2"/>
              <a:buChar char=""/>
              <a:tabLst>
                <a:tab algn="l" pos="7986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d osnivanja 1819. godine, fokusirana na pružanje usluga stanovništvu i malim i srednjim preduzeć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buNone/>
              <a:tabLst>
                <a:tab algn="l" pos="7986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Wingdings" charset="2"/>
              <a:buChar char=""/>
              <a:tabLst>
                <a:tab algn="l" pos="7986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Listirana na tri berze u regi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buNone/>
              <a:tabLst>
                <a:tab algn="l" pos="7986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Wingdings" charset="2"/>
              <a:buChar char=""/>
              <a:tabLst>
                <a:tab algn="l" pos="7986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Broj zaposlenih - 51.000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buNone/>
              <a:tabLst>
                <a:tab algn="l" pos="0"/>
                <a:tab algn="l" pos="79866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ilansna suma Grup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Wingdings" charset="2"/>
              <a:buChar char=""/>
              <a:tabLst>
                <a:tab algn="l" pos="7986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Posluje u 8 zema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buNone/>
              <a:tabLst>
                <a:tab algn="l" pos="7986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Wingdings" charset="2"/>
              <a:buChar char=""/>
              <a:tabLst>
                <a:tab algn="l" pos="7986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17,4 miliona klijen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27280" y="5445000"/>
            <a:ext cx="61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8748720" y="270828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00360" y="4437000"/>
            <a:ext cx="576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4221000"/>
            <a:ext cx="57600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3860640"/>
            <a:ext cx="647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3500280"/>
            <a:ext cx="64764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40360" y="3357720"/>
            <a:ext cx="647640" cy="20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8604360" y="27079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5516640"/>
            <a:ext cx="72072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E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139.81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5516640"/>
            <a:ext cx="7192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E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152.68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5516640"/>
            <a:ext cx="79200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E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181.70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03640" y="5516640"/>
            <a:ext cx="79236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E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200.519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5516640"/>
            <a:ext cx="72072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E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201.44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77080" y="3141720"/>
            <a:ext cx="647640" cy="23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885080" y="2852640"/>
            <a:ext cx="64764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77080" y="5516640"/>
            <a:ext cx="72072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E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201.7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12000" y="5516640"/>
            <a:ext cx="72072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E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205.93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16360" y="2962440"/>
            <a:ext cx="5508360" cy="1690560"/>
          </a:xfrm>
          <a:custGeom>
            <a:avLst/>
            <a:gdLst/>
            <a:ahLst/>
            <a:rect l="l" t="t" r="r" b="b"/>
            <a:pathLst>
              <a:path w="3470" h="1065">
                <a:moveTo>
                  <a:pt x="0" y="1065"/>
                </a:moveTo>
                <a:cubicBezTo>
                  <a:pt x="794" y="986"/>
                  <a:pt x="1588" y="907"/>
                  <a:pt x="2132" y="748"/>
                </a:cubicBezTo>
                <a:cubicBezTo>
                  <a:pt x="2676" y="589"/>
                  <a:pt x="3062" y="226"/>
                  <a:pt x="3266" y="113"/>
                </a:cubicBezTo>
                <a:cubicBezTo>
                  <a:pt x="3470" y="0"/>
                  <a:pt x="3413" y="33"/>
                  <a:pt x="3356" y="67"/>
                </a:cubicBezTo>
              </a:path>
            </a:pathLst>
          </a:custGeom>
          <a:noFill/>
          <a:ln w="316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204040" cy="417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363600" indent="0" algn="just">
              <a:lnSpc>
                <a:spcPct val="80000"/>
              </a:lnSpc>
              <a:buNone/>
              <a:tabLst>
                <a:tab algn="l" pos="0"/>
                <a:tab algn="l" pos="7986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9866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Glavna filijala - Beč, Austr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80000"/>
              </a:lnSpc>
              <a:buNone/>
              <a:tabLst>
                <a:tab algn="l" pos="7986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80000"/>
              </a:lnSpc>
              <a:buNone/>
              <a:tabLst>
                <a:tab algn="l" pos="7986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9866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Vlasništvo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– 57,9 % akcija na slobodn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80000"/>
              </a:lnSpc>
              <a:buNone/>
              <a:tabLst>
                <a:tab algn="l" pos="0"/>
                <a:tab algn="l" pos="79866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ržištu, 10,1% Criteria Caixa Cord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80000"/>
              </a:lnSpc>
              <a:buNone/>
              <a:tabLst>
                <a:tab algn="l" pos="0"/>
                <a:tab algn="l" pos="79866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40 % austrijske štedionic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80000"/>
              </a:lnSpc>
              <a:buNone/>
              <a:tabLst>
                <a:tab algn="l" pos="0"/>
                <a:tab algn="l" pos="79866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Erste fondacija i zaposle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80000"/>
              </a:lnSpc>
              <a:buNone/>
              <a:tabLst>
                <a:tab algn="l" pos="7986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80000"/>
              </a:lnSpc>
              <a:buNone/>
              <a:tabLst>
                <a:tab algn="l" pos="7986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9866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Jedna od prve tri banke u celom regio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80000"/>
              </a:lnSpc>
              <a:buNone/>
              <a:tabLst>
                <a:tab algn="l" pos="7986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80000"/>
              </a:lnSpc>
              <a:buNone/>
              <a:tabLst>
                <a:tab algn="l" pos="0"/>
                <a:tab algn="l" pos="7986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80000"/>
              </a:lnSpc>
              <a:buNone/>
              <a:tabLst>
                <a:tab algn="l" pos="0"/>
                <a:tab algn="l" pos="7986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80000"/>
              </a:lnSpc>
              <a:buNone/>
              <a:tabLst>
                <a:tab algn="l" pos="7986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79866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Erste fonda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9866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novana 2003. godine kao pravni naslednik “Erste oesterreichische Spar-Casse”, i stoga je glavni akcionar Erste Gru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80000"/>
              </a:lnSpc>
              <a:buNone/>
              <a:tabLst>
                <a:tab algn="l" pos="7986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9866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čela je sa radom 2005. godine razvivši tri programa: socijalna pitanja, kultura i Evropa; sprovodi niz aktivnosti radi dobrobiti društva štiteći budućnost Erste Gru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80000"/>
              </a:lnSpc>
              <a:buNone/>
              <a:tabLst>
                <a:tab algn="l" pos="0"/>
                <a:tab algn="l" pos="7986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48360" y="1484280"/>
            <a:ext cx="3456000" cy="27939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539280" y="333360"/>
            <a:ext cx="8672760" cy="836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Erste Grup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04040" cy="72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Ulazak na srpsko tržiš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05840" cy="45273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363600" indent="-363600" algn="just">
              <a:buClr>
                <a:srgbClr val="000000"/>
              </a:buClr>
              <a:buFont typeface="Wingdings" charset="2"/>
              <a:buChar char=""/>
              <a:tabLst>
                <a:tab algn="l" pos="79866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Erste Banka u Srbiji je prisutna od decembra 2005. godine kada je kupila 83.3% akcija Novosadske banke, najstarije finansijske institucije u našoj zeml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buNone/>
              <a:tabLst>
                <a:tab algn="l" pos="7986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Wingdings" charset="2"/>
              <a:buChar char=""/>
              <a:tabLst>
                <a:tab algn="l" pos="79866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Na srpskom tržištu su  pozicionirane još četiri članice Gru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buNone/>
              <a:tabLst>
                <a:tab algn="l" pos="7986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buNone/>
              <a:tabLst>
                <a:tab algn="l" pos="0"/>
                <a:tab algn="l" pos="7986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buNone/>
              <a:tabLst>
                <a:tab algn="l" pos="7986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buNone/>
              <a:tabLst>
                <a:tab algn="l" pos="7986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buNone/>
              <a:tabLst>
                <a:tab algn="l" pos="0"/>
                <a:tab algn="l" pos="7986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buNone/>
              <a:tabLst>
                <a:tab algn="l" pos="7986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7986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2360" y="4076640"/>
            <a:ext cx="2016000" cy="187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9e0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3300"/>
                </a:solidFill>
                <a:latin typeface="Arial"/>
              </a:rPr>
              <a:t>Ban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oslovi s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stanovništvom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ravnim lic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Trgovanja H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Korporativ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finansi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4360" y="4076640"/>
            <a:ext cx="1439640" cy="360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2924280"/>
            <a:ext cx="8713800" cy="1152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ecf4"/>
              </a:gs>
              <a:gs pos="100000">
                <a:srgbClr val="83d2e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83676"/>
                </a:solidFill>
                <a:latin typeface="Arial"/>
              </a:rPr>
              <a:t>Erste Gr</a:t>
            </a:r>
            <a:r>
              <a:rPr b="1" lang="sr-Latn-CS" sz="3200" spc="-1" strike="noStrike">
                <a:solidFill>
                  <a:srgbClr val="083676"/>
                </a:solidFill>
                <a:latin typeface="Arial"/>
              </a:rPr>
              <a:t>u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84360" y="4076640"/>
            <a:ext cx="1943280" cy="18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9e0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3300"/>
                </a:solidFill>
                <a:latin typeface="Arial"/>
              </a:rPr>
              <a:t>Lizing i razvoj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3300"/>
                </a:solidFill>
                <a:latin typeface="Arial"/>
              </a:rPr>
              <a:t>nekret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rađevins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sl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3280" y="4076640"/>
            <a:ext cx="2089440" cy="18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9e0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3300"/>
                </a:solidFill>
                <a:latin typeface="Arial"/>
              </a:rPr>
              <a:t>Liz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š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utomob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859280" y="4076640"/>
            <a:ext cx="1584360" cy="28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77080" y="4076640"/>
            <a:ext cx="2087640" cy="18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9e0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nvesticio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020000" y="4076640"/>
            <a:ext cx="1838160" cy="571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700360" y="4076640"/>
            <a:ext cx="156204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36000" cy="908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Erste Bank a.d. Novi S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6560" y="1052280"/>
            <a:ext cx="4897440" cy="4887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363600" indent="0" algn="just">
              <a:buNone/>
              <a:tabLst>
                <a:tab algn="l" pos="0"/>
                <a:tab algn="l" pos="79866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buNone/>
              <a:tabLst>
                <a:tab algn="l" pos="0"/>
                <a:tab algn="l" pos="7986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Wingdings" charset="2"/>
              <a:buChar char=""/>
              <a:tabLst>
                <a:tab algn="l" pos="7986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okus na poslovanju sa građanima, malim i srednjim preduzećima i lokalnim samouprav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buNone/>
              <a:tabLst>
                <a:tab algn="l" pos="7986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Wingdings" charset="2"/>
              <a:buChar char=""/>
              <a:tabLst>
                <a:tab algn="l" pos="7986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66 filijale za rad sa stanovništv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buNone/>
              <a:tabLst>
                <a:tab algn="l" pos="7986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Wingdings" charset="2"/>
              <a:buChar char=""/>
              <a:tabLst>
                <a:tab algn="l" pos="7986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centara za rad sa pravnim li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buNone/>
              <a:tabLst>
                <a:tab algn="l" pos="7986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Wingdings" charset="2"/>
              <a:buChar char=""/>
              <a:tabLst>
                <a:tab algn="l" pos="7986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bližno 1.000 zaposlen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buNone/>
              <a:tabLst>
                <a:tab algn="l" pos="7986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Wingdings" charset="2"/>
              <a:buChar char=""/>
              <a:tabLst>
                <a:tab algn="l" pos="7986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iše 250.000 klijen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buNone/>
              <a:tabLst>
                <a:tab algn="l" pos="0"/>
                <a:tab algn="l" pos="7986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buNone/>
              <a:tabLst>
                <a:tab algn="l" pos="0"/>
                <a:tab algn="l" pos="7986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64000" y="1628640"/>
            <a:ext cx="35784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132760" cy="9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skustvo Grupe u finansiranju projekata O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2349000"/>
            <a:ext cx="4103640" cy="32403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363600" indent="0">
              <a:buNone/>
              <a:tabLst>
                <a:tab algn="l" pos="0"/>
                <a:tab algn="l" pos="7986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79866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40%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tržišnog učešća (tržišni li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0"/>
                <a:tab algn="l" pos="7986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79866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kupno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finansiranih postroj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0"/>
                <a:tab algn="l" pos="79866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79866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kupna instalisana snaga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41.6 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0"/>
                <a:tab algn="l" pos="7986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79866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ipična veličina postrojenja 500-800 kW (prosečno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700 kW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0"/>
                <a:tab algn="l" pos="7986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79866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kupan iznos finansiranja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EUR 167 m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1557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imer finansiranja BGP u Češkoj, koja je po ukupnoj površini i površini obradivog zemljišta najsličnija Srbiji (4.3 m 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11640" y="2492280"/>
            <a:ext cx="4788000" cy="2784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9280" y="5516640"/>
            <a:ext cx="86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Potencijal češkog biogas tržišta 595 BGP (417 MW). Izgrađeno 192 BGP (115 M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skustvo Erste Bank a.d. Novi S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6560" y="1906200"/>
            <a:ext cx="432144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363600" indent="0">
              <a:buNone/>
              <a:tabLst>
                <a:tab algn="l" pos="0"/>
                <a:tab algn="l" pos="7986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nansirano (2010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0"/>
                <a:tab algn="l" pos="7986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-"/>
              <a:tabLst>
                <a:tab algn="l" pos="79866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4 mini hidro centr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-"/>
              <a:tabLst>
                <a:tab algn="l" pos="79866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kupna instalisana snaga 4.6 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-"/>
              <a:tabLst>
                <a:tab algn="l" pos="79866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kupan iznos finansiranja EUR 5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7986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7986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7986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0"/>
                <a:tab algn="l" pos="7986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jekti u fazi pripre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0"/>
                <a:tab algn="l" pos="7986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-"/>
              <a:tabLst>
                <a:tab algn="l" pos="79866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13 mini hidro centrala (12.1 MW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-"/>
              <a:tabLst>
                <a:tab algn="l" pos="79866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3 biogas/biomasa postrojenja (13 M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-"/>
              <a:tabLst>
                <a:tab algn="l" pos="79866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2 vetro-parka (33 M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7986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1981080" cy="1257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804000" y="1916280"/>
            <a:ext cx="1871640" cy="1257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572000" y="3789360"/>
            <a:ext cx="1944720" cy="1490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804000" y="3789360"/>
            <a:ext cx="18255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Osnovne karakteristike finansiranj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05840" cy="2530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ugoročno finansiranje (do 12 god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7986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race period (u zavisnosti od projek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7986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gućnost pripisa kamate u toku grace peri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7986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gućnost otplate u jedakim ratama ili jednakim anuite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05840" cy="1295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363600" indent="0" algn="ctr">
              <a:buNone/>
              <a:tabLst>
                <a:tab algn="l" pos="7986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buNone/>
              <a:tabLst>
                <a:tab algn="l" pos="0"/>
                <a:tab algn="l" pos="79866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Arial"/>
              </a:rPr>
              <a:t>Hvala na pažnji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8"/>
          <p:cNvSpPr/>
          <p:nvPr/>
        </p:nvSpPr>
        <p:spPr>
          <a:xfrm>
            <a:off x="611280" y="4149720"/>
            <a:ext cx="3168720" cy="1763640"/>
          </a:xfrm>
          <a:prstGeom prst="rect">
            <a:avLst/>
          </a:prstGeom>
          <a:noFill/>
          <a:ln w="9360">
            <a:solidFill>
              <a:srgbClr val="ced7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noAutofit/>
          </a:bodyPr>
          <a:p>
            <a:pPr>
              <a:tabLst>
                <a:tab algn="l" pos="0"/>
                <a:tab algn="l" pos="542880"/>
                <a:tab algn="l" pos="403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2880"/>
                <a:tab algn="l" pos="403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2880"/>
                <a:tab algn="l" pos="403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leksandar Savić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2880"/>
                <a:tab algn="l" pos="403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333399"/>
                </a:solidFill>
                <a:latin typeface="Arial"/>
                <a:ea typeface="Arial"/>
              </a:rPr>
              <a:t>Erste Bank </a:t>
            </a:r>
            <a:r>
              <a:rPr b="1" i="1" lang="sr-Latn-CS" sz="1200" spc="-1" strike="noStrike">
                <a:solidFill>
                  <a:srgbClr val="333399"/>
                </a:solidFill>
                <a:latin typeface="Arial"/>
                <a:ea typeface="Arial"/>
              </a:rPr>
              <a:t>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2880"/>
                <a:tab algn="l" pos="403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enior Account Manag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ulevar Milutina Milankovića 11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2880"/>
                <a:tab algn="l" pos="403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1070 Novi Beogr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2880"/>
                <a:tab algn="l" pos="403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2880"/>
                <a:tab algn="l" pos="403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el.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+381 11 201 50 2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2880"/>
                <a:tab algn="l" pos="403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obile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+381 64 874 74 63 </a:t>
            </a:r>
            <a:br>
              <a:rPr sz="1200"/>
            </a:b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aleksandar.savic@erstebank.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2880"/>
                <a:tab algn="l" pos="403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2880"/>
                <a:tab algn="l" pos="403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8:43:56Z</dcterms:created>
  <dc:creator>A96TDGB</dc:creator>
  <dc:description/>
  <dc:language>en-US</dc:language>
  <cp:lastModifiedBy> </cp:lastModifiedBy>
  <dcterms:modified xsi:type="dcterms:W3CDTF">2011-05-05T06:10:00Z</dcterms:modified>
  <cp:revision>372</cp:revision>
  <dc:subject/>
  <dc:title>Folie 1</dc:title>
</cp:coreProperties>
</file>